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3D2-C540-46D0-95E7-331A233D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2D1-2A2E-42C6-BD2E-584381FA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6043-2F27-4806-84BE-338E95CAC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would like to thank The GC and the Southern Asia Pacific Divi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helping Us to organize this important ev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don’t want to forget all the IRLA team and especially Don Robins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s in charge of the practical issu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ve all I would like to thank the Lord for His blessing and His prote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C2E-1D1A-4A48-AFBE-AFBCA86E4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8E0-7B04-4716-8C74-87E60BB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4C5-F06F-402C-A62D-61BD5C1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030-434A-4624-A5E9-FFE36532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669-5795-4932-84D8-C3C60928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83C3-58FE-4802-8D6B-F625586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1766-D02D-4E88-B365-9FD61A4D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A91D-94A8-4954-9418-8AA4BBC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3D9A-E73F-4769-8B4D-0C933042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DB5C-10DD-4C9D-A163-58060BF3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C990-333A-4E21-83AD-D9A8999E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D32-24BC-4502-8FAF-B3DC552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2D0-A9DB-410C-BFB7-7ADD51E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16B5-096D-439D-8754-87E997B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C72-8C8F-4C86-BA41-8B4007F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D89-E02A-4224-AE7D-EA92E779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5765-3A92-4555-ACD2-1A1913D8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9B0-288C-4E4C-BCE9-7C8271CA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AD0E-4191-486C-B955-8DD511A5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778E-304B-44DA-94DD-DEB20557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5C1C-A250-43F4-B043-991CC07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A016-236A-4EDB-B37D-352324B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5A2C-F256-429B-83C7-3F62518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21E-9E20-4D80-B218-E77D4666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C239-0778-4D11-B540-C433828B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7C85-6D62-40EF-A7FF-13C3580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4617B-5176-4693-A896-ACEDC84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8E28-34B2-41C7-8613-7D2D65B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443F6-BA0C-4264-A601-C183A2C3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11A0-88FE-4FAE-8E5F-3ACBB093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B490-ADD6-42AA-ACF9-CD7CFA73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857E-A3BE-4B89-8392-95CB7223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DBA8-7524-4F84-8C15-A000F93D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1213-A36A-44D0-991A-A16E44E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96C-5E7B-4030-8E3A-72356FD6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73DE-0B6D-4370-BA69-B8B6BE2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AC23-DD84-4EA8-9FC5-097D121E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3432-6424-4844-BC07-5A14D5F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9505-EE6E-444D-9273-3056321A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B15A-2296-41AB-B323-6FE6AA3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449FE-EAC3-477D-A7A7-D404E43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CBA0-DBBE-4393-8FE8-7DC30C7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5C01-2AA4-4692-99A1-51A8464B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1F2B-B937-4891-BEDD-22CC2FEA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524F-24E4-4F05-AECE-E70CF707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D8-CE0D-4B32-87BF-DA940774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2E13D-0C07-48E6-87A1-AEA139EC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F5B61-6EE8-4BFE-8F7A-B9A67F4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6D18-8AE1-41C7-9BD0-B4DB0E4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F745-5C6F-44A4-86FA-731B58D0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5637-55B5-4DFD-AC9D-980973D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7868D-70AA-43A9-96F9-29DB1917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32F3-537B-42B0-9043-A826870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0C2C-E146-4F70-916A-FAE7477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7F44-C8DF-4F84-B516-437B498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7CF82-1E49-4B5C-ABEC-89419300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900-5EF4-44EF-8819-D77C985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C0F0A-520C-403B-8E33-614D4C4F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62B16-19F1-4931-8BDA-FCB1958D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0111-5F83-4885-93DF-2466A6BF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930D-57AB-4200-8F71-15708847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B08B4-14CA-4565-B603-31196EA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4AB2D-F3A2-48D6-BDA6-4E543518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B949-7731-4DD6-95F4-6E0F836A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2A93-4925-4FB3-8305-F4F1B01A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D17C2-0032-4AEE-BBF1-CD061AE0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B583-5E6A-422A-850B-12DB01B8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225-C4A2-49CF-BA95-C2A4C4E8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B337-95C3-4E5F-8947-F570A5FB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E8C83-A7F0-48A9-A1A6-42B129FA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EAC5-DD2E-4968-91DA-3C1C6B1C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34878-AA57-41B9-AD3E-100A8749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21049-080F-4E8B-B28E-81372C51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B2D2-B4F8-4E18-A096-4881FA7A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00651-750F-478C-B1E1-0CB29C56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C56F-6D36-4B45-A5C9-274CAF9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EF7E-EBAD-4506-AAE4-B6C4BA2A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48362-69EF-4888-A3C0-C557C4B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2D0-ACF2-4017-B166-9157931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15A1-9F40-4C9D-8AE2-2A3762F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D55A-0BDB-4094-9692-2427A54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8F28-04CC-4D55-AD6F-692D7B50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0640-CEAF-43EF-994E-507B5B2E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395C0-ED45-4A9A-B9A8-5F35647B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384-E047-4836-877C-B7734AF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AC5-1694-4A9C-9D98-F86DC212C91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D3A-E002-4A12-A8E2-1060B7E53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864-2DC5-4C3A-9C65-50EE7FF14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B2D-0094-4CAC-B0A9-E83EFFB7C3B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3ED-BB14-43EE-AC23-3B0546547D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9BF4-5000-4ECE-AC91-2A5E496E58E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A304-185C-49B7-89E0-1DDD6F21E61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1026" descr=""/>
          <p:cNvPicPr/>
          <p:nvPr/>
        </p:nvPicPr>
        <p:blipFill>
          <a:blip r:embed="rId1"/>
          <a:stretch/>
        </p:blipFill>
        <p:spPr>
          <a:xfrm>
            <a:off x="-6480" y="1695600"/>
            <a:ext cx="9156960" cy="28098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714640" y="4266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P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 Dr. John Gra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76320" y="5257800"/>
            <a:ext cx="914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-79200" y="19080"/>
            <a:ext cx="816264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1143000" y="1904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1400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remismo religi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400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Nacional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400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Secularismo intoler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400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 necesidad de segur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400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Proselitismo inaprop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1026" descr=""/>
          <p:cNvPicPr/>
          <p:nvPr/>
        </p:nvPicPr>
        <p:blipFill>
          <a:blip r:embed="rId1"/>
          <a:stretch/>
        </p:blipFill>
        <p:spPr>
          <a:xfrm>
            <a:off x="-128520" y="-6480"/>
            <a:ext cx="8736120" cy="16160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8088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odas las religiones se sienten amena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La nueva alianza entre la religión y la polí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3. La resolución de las Naciones Unidas sobre Difamación de las relig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09480" indent="-609480"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potenciales chivos expiato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Aft>
                <a:spcPts val="1599"/>
              </a:spcAft>
              <a:buClr>
                <a:srgbClr val="60b5cc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cristianos en el Oriente Medio y e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Aft>
                <a:spcPts val="1599"/>
              </a:spcAft>
              <a:buClr>
                <a:srgbClr val="60b5cc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sulmanes en Amé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Evangélicos en todas par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Religiones minoritarias en todas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art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91440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entras más son excluidas (las minorías) más dedicarán sus lealtades y esfuerzos a las religiones subculturales, y más serán vistas como obtusos, separatistas o subversiv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Philip Jen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1200240" indent="-743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r responsables en sus escritos y discursos/expresiones verba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Favorecer las reuniones interreligios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spcAft>
                <a:spcPts val="751"/>
              </a:spcAft>
              <a:buClr>
                <a:srgbClr val="60b5cc"/>
              </a:buClr>
              <a:buSzPct val="90000"/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Ser positivamente activos en la comun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spcAft>
                <a:spcPts val="751"/>
              </a:spcAft>
              <a:buClr>
                <a:srgbClr val="60b5cc"/>
              </a:buClr>
              <a:buSzPct val="90000"/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Promover y proteger la libertad religiosa para todos y en todas par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spcAft>
                <a:spcPts val="751"/>
              </a:spcAft>
              <a:buClr>
                <a:srgbClr val="60b5cc"/>
              </a:buClr>
              <a:buSzPct val="90000"/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0240" indent="-7430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7616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- ¿Cuál es el estado actual de la libertad religiosa en nuestro mu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337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I - ¿Cómo están interactuando las relig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337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II - ¿Hacia dónde vam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3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1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V - ¿Qué podemos hacer para mejorar la libertad religiosa en nuestro mu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1026" descr=""/>
          <p:cNvPicPr/>
          <p:nvPr/>
        </p:nvPicPr>
        <p:blipFill>
          <a:blip r:embed="rId1"/>
          <a:stretch/>
        </p:blipFill>
        <p:spPr>
          <a:xfrm>
            <a:off x="433440" y="146160"/>
            <a:ext cx="8429400" cy="131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40 cristianos fueron asesinados            (119 reportados recientemente en AN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iglesias fueron quemadas o destr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20,000 personas fueron acomodadas en campamentos de refug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40,000 huyeron al ca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800 casas de adventistas fueron destruidas (AN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312480">
              <a:lnSpc>
                <a:spcPct val="90000"/>
              </a:lnSpc>
              <a:spcAft>
                <a:spcPts val="18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480960" y="212760"/>
            <a:ext cx="7986600" cy="1317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nforme</a:t>
            </a: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de las Naciones Unidas por el Vocero/Comunicador especial de la O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e Anual sobre Libertad Religiosa Internacional, publicado por el Departamento de Estado de los Estados Unidos (http://house.gov/international_relatio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3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467920" cy="1261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5a637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Informe Mundial sobre Libertad Religiosa publicado por el Departamento de AsuntosPúblicos y Libertad Religiosa de la Asociación General y Andrews Universit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5a637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Comisión de los Estados Unidos sobre Libertad Religiosa Internacion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5a637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Times New Roman"/>
              </a:rPr>
              <a:t>Visitas, reuniones y otros med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476"/>
              </a:spcBef>
              <a:spcAft>
                <a:spcPts val="950"/>
              </a:spcAft>
              <a:buClr>
                <a:srgbClr val="5a637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5a637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5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500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016840" cy="1384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La libertad religiosa todavía está protegida en la mayoría de los países (118). Esta es la buena noti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2. La libertad religiosa es desafiada más frecuentemente (5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599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3. La intolerancia religiosa no pasa por alto a ningún grupo. Afecta a musulmanes, cristianos, hindúes, budistas, y a otros grupos religiosos minoritarios (38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3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8377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o mejor: Las Américas y el Pacífico Sur (Oceaní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uropa, África Sub-sahariana y el Asia del 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África del Norte y el Oriente 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-76320" y="1905120"/>
          <a:ext cx="9144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905120"/>
                    <a:ext cx="9144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6"/>
          <p:cNvSpPr/>
          <p:nvPr/>
        </p:nvSpPr>
        <p:spPr>
          <a:xfrm>
            <a:off x="60948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Haettenschweiler"/>
              </a:rPr>
              <a:t>Ranking of Religious Freedom</a:t>
            </a:r>
            <a:br>
              <a:rPr sz="6000"/>
            </a:br>
            <a:r>
              <a:rPr b="0" lang="en-US" sz="3600" spc="-1" strike="noStrike">
                <a:solidFill>
                  <a:srgbClr val="ffff00"/>
                </a:solidFill>
                <a:latin typeface="Haettenschweiler"/>
              </a:rPr>
              <a:t>by Reg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MC" sz="4700" spc="-1" strike="noStrike">
              <a:solidFill>
                <a:srgbClr val="ffc8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MC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8382240" cy="6286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457200" cy="76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17:13Z</dcterms:created>
  <dc:creator>John Graz</dc:creator>
  <dc:description/>
  <dc:language>en-US</dc:language>
  <cp:lastModifiedBy>Gabriel y Alba</cp:lastModifiedBy>
  <dcterms:modified xsi:type="dcterms:W3CDTF">2014-07-18T04:03:05Z</dcterms:modified>
  <cp:revision>179</cp:revision>
  <dc:subject/>
  <dc:title>5th World IRLA Congress</dc:title>
</cp:coreProperties>
</file>